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7.jpeg" ContentType="image/jpeg"/>
  <Override PartName="/ppt/media/image4.jpeg" ContentType="image/jpeg"/>
  <Override PartName="/ppt/media/image9.pct" ContentType="image/x-pict"/>
  <Override PartName="/ppt/media/image5.pct" ContentType="image/x-pict"/>
  <Override PartName="/ppt/media/image6.jpeg" ContentType="image/jpeg"/>
  <Override PartName="/ppt/media/image10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E24-B1E1-46C7-AECB-AD9C0076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4B3-E9AF-47EC-85A0-55C3BB04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310A-96F0-4CB6-995A-D1EC3B34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9B0-98F7-44FB-B4BC-0C5E282D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5D6E-446F-44EC-B3FB-CA8FC4D0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9602-DE0B-4DA7-B309-54E20CC0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35BA-ECBE-4137-8215-38B648EF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FA4B-2BEE-4C82-991C-34F2ADB0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F6FA-07DE-44B7-B5DC-4F688020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003F-3943-416E-8556-D7CDA8BB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AF37-3C9A-4ED3-9F9F-8CE05610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8138-E080-4C73-A60B-52776883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D9F2-5334-4B7F-97C1-FD20D417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6A60-FC8F-4A0A-9C8C-272CE879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43F7-F94A-4D75-9690-5B7DB2FD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D717-0CBF-42FF-A7BD-343B210D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DB9F-C72C-4C35-AC1E-13A326B5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B5D4-D99E-4FC4-99FE-B0135190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C9E8-C659-474D-84E5-F3CC9A07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D7E9-1CC3-4C90-B984-7F3A988C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FB5D-5CC6-494A-82EE-4F88865F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201-70F8-4924-ADB3-274BA421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ABF-2143-4637-AF75-FDF65FF1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F50F-8ED5-4ED5-9BF8-74C5688A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D88A-6B4B-4C27-B968-B84E985DDE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A228-BDC7-41F7-B9D4-2095F5ABCB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image" Target="../media/image9.pct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dge-music6.wikispaces.com/" TargetMode="External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isneyworld.disney.go.com/wdw/entertainment/entertainmentDetail?id=FantasmicEntertainmentPage&amp;bhcp=1" TargetMode="External"/><Relationship Id="rId3" Type="http://schemas.openxmlformats.org/officeDocument/2006/relationships/hyperlink" Target="http://disneyworld.disney.go.com/wdw/entertainment/entertainmentDetail?id=FantasmicEntertainmentPage&amp;bhcp=1" TargetMode="External"/><Relationship Id="rId4" Type="http://schemas.openxmlformats.org/officeDocument/2006/relationships/hyperlink" Target="http://disneyworld.disney.go.com/wdw/entertainment/entertainmentDetail?id=FantasmicEntertainmentPage&amp;bhcp=1" TargetMode="External"/><Relationship Id="rId5" Type="http://schemas.openxmlformats.org/officeDocument/2006/relationships/hyperlink" Target="http://disneyworld.disney.go.com/wdw/entertainment/entertainmentDetail?id=FantasmicEntertainmentPage&amp;bhcp=1" TargetMode="External"/><Relationship Id="rId6" Type="http://schemas.openxmlformats.org/officeDocument/2006/relationships/hyperlink" Target="http://disneyworld.disney.go.com/wdw/entertainment/entertainmentDetail?id=FantasmicEntertainmentPage&amp;bhcp=1" TargetMode="External"/><Relationship Id="rId7" Type="http://schemas.openxmlformats.org/officeDocument/2006/relationships/hyperlink" Target="http://disneyworld.disney.go.com/wdw/entertainment/entertainmentDetail?id=FantasmicEntertainmentPage&amp;bhcp=1" TargetMode="External"/><Relationship Id="rId8" Type="http://schemas.openxmlformats.org/officeDocument/2006/relationships/hyperlink" Target="http://disneyworld.disney.go.com/wdw/entertainment/entertainmentDetail?id=FantasmicEntertainmentPage&amp;bhcp=1" TargetMode="External"/><Relationship Id="rId9" Type="http://schemas.openxmlformats.org/officeDocument/2006/relationships/hyperlink" Target="http://disneyworld.disney.go.com/wdw/entertainment/entertainmentDetail?id=FantasmicEntertainmentPage&amp;bhcp=1" TargetMode="External"/><Relationship Id="rId10" Type="http://schemas.openxmlformats.org/officeDocument/2006/relationships/hyperlink" Target="http://disneyworld.disney.go.com/wdw/entertainment/entertainmentDetail?id=FantasmicEntertainmentPage&amp;bhcp=1" TargetMode="External"/><Relationship Id="rId11" Type="http://schemas.openxmlformats.org/officeDocument/2006/relationships/hyperlink" Target="http://disneyworld.disney.go.com/wdw/entertainment/entertainmentDetail?id=FantasmicEntertainmentPage&amp;bhcp=1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Wide Latin"/>
              </a:rPr>
              <a:t>Welcome to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Wide Latin"/>
              </a:rPr>
              <a:t>Music With Mrs. Pha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2006-2007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1533600" cy="17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 will tea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re are no distractions or probl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re is a problem I will ask you to fix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can’t or will not fix it I will do some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943600" y="5334120"/>
            <a:ext cx="2003400" cy="1333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505320" y="5334120"/>
            <a:ext cx="2003400" cy="1333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066680" y="5334120"/>
            <a:ext cx="2003400" cy="13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ed and what you are willing to do to fix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I do will depend on…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59240" y="19177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05120" y="3657600"/>
            <a:ext cx="4857480" cy="22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It's all up to you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>
    <p:cover dir="u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dures For My Cla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SIT IN YOUR ASSIGNED S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PLAY THE INSTRUMENT THAT YOU ARE ASSIGNED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USE THE COMPUTER YOU ARE ASSIGNED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LEAVE THE CLASSROOM AFTER I DISMISS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ou may be anxious to know what we will be doing in music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need to learn how to read music so you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 the piano keybo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 the classroom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e music on Mac laptop computers using “Garageban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rst I want to get to know you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se your hand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own a Mac computer at h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own a PC computer at h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own an Ip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own a MP3 play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take any type of private less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UR WEBSI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a web site developed just for you 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edge-music6.wikispac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2670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aa700"/>
                </a:solidFill>
                <a:uFillTx/>
                <a:latin typeface="Arial"/>
                <a:hlinkClick r:id="rId2"/>
              </a:rPr>
              <a:t>http://edge-music6.wikispaces.com/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781680" y="5079960"/>
            <a:ext cx="17082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Let’s Beg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I will start out every class with a music selection.  Some you will like, some you will not. You can suggest music for us to listen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While you are listening to the music you will have a question to answer.  Always do your best wor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When the music goes off you have one more job.  Write down the name of the music we listened to and rate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UR FIRST QUES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your favorite kind of music and when do you listen to it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828800" y="304920"/>
            <a:ext cx="525780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ating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669960" y="1898640"/>
            <a:ext cx="8169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a91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…. </a:t>
            </a:r>
            <a:r>
              <a:rPr b="0" lang="en-US" sz="2800" spc="-1" strike="noStrike">
                <a:solidFill>
                  <a:srgbClr val="ffda91"/>
                </a:solidFill>
                <a:latin typeface="Arial"/>
              </a:rPr>
              <a:t>I LOVE IT! PLAY IT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a91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da91"/>
                </a:solidFill>
                <a:latin typeface="Arial"/>
              </a:rPr>
              <a:t>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a700"/>
                </a:solidFill>
                <a:latin typeface="Arial"/>
              </a:rPr>
              <a:t>4……. I Like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3……..It’s OK sounds like something my gran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would like.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4……..It’s OK sounds like something my par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would 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1……..YUCK!! Makes me want to toss 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cook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did I just  listening t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9840" y="5029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a700"/>
                </a:solidFill>
                <a:uFillTx/>
                <a:latin typeface="Arial"/>
                <a:hlinkClick r:id="rId2"/>
              </a:rPr>
              <a:t>http:</a:t>
            </a:r>
            <a:r>
              <a:rPr b="0" lang="en-US" sz="3200" spc="-1" strike="noStrike" u="sng">
                <a:solidFill>
                  <a:srgbClr val="faa700"/>
                </a:solidFill>
                <a:uFillTx/>
                <a:latin typeface="Arial"/>
                <a:hlinkClick r:id="rId3"/>
              </a:rPr>
              <a:t>//disneyworld</a:t>
            </a:r>
            <a:r>
              <a:rPr b="0" lang="en-US" sz="3200" spc="-1" strike="noStrike" u="sng">
                <a:solidFill>
                  <a:srgbClr val="faa700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faa700"/>
                </a:solidFill>
                <a:uFillTx/>
                <a:latin typeface="Arial"/>
                <a:hlinkClick r:id="rId5"/>
              </a:rPr>
              <a:t>disney</a:t>
            </a:r>
            <a:r>
              <a:rPr b="0" lang="en-US" sz="3200" spc="-1" strike="noStrike" u="sng">
                <a:solidFill>
                  <a:srgbClr val="faa700"/>
                </a:solidFill>
                <a:uFillTx/>
                <a:latin typeface="Arial"/>
                <a:hlinkClick r:id="rId6"/>
              </a:rPr>
              <a:t>.go.</a:t>
            </a:r>
            <a:r>
              <a:rPr b="0" lang="en-US" sz="3200" spc="-1" strike="noStrike" u="sng">
                <a:solidFill>
                  <a:srgbClr val="faa700"/>
                </a:solidFill>
                <a:uFillTx/>
                <a:latin typeface="Arial"/>
                <a:hlinkClick r:id="rId7"/>
              </a:rPr>
              <a:t>com/wdw/entertainment/entertainmentDetail</a:t>
            </a:r>
            <a:r>
              <a:rPr b="0" lang="en-US" sz="3200" spc="-1" strike="noStrike" u="sng">
                <a:solidFill>
                  <a:srgbClr val="faa700"/>
                </a:solidFill>
                <a:uFillTx/>
                <a:latin typeface="Arial"/>
                <a:hlinkClick r:id="rId8"/>
              </a:rPr>
              <a:t>?</a:t>
            </a:r>
            <a:r>
              <a:rPr b="0" lang="en-US" sz="3200" spc="-1" strike="noStrike" u="sng">
                <a:solidFill>
                  <a:srgbClr val="faa700"/>
                </a:solidFill>
                <a:uFillTx/>
                <a:latin typeface="Arial"/>
                <a:hlinkClick r:id="rId9"/>
              </a:rPr>
              <a:t>id=FantasmicEntertainmentPage</a:t>
            </a:r>
            <a:r>
              <a:rPr b="0" lang="en-US" sz="3200" spc="-1" strike="noStrike" u="sng">
                <a:solidFill>
                  <a:srgbClr val="faa700"/>
                </a:solidFill>
                <a:uFillTx/>
                <a:latin typeface="Arial"/>
                <a:hlinkClick r:id="rId10"/>
              </a:rPr>
              <a:t>&amp;</a:t>
            </a:r>
            <a:r>
              <a:rPr b="0" lang="en-US" sz="3200" spc="-1" strike="noStrike" u="sng">
                <a:solidFill>
                  <a:srgbClr val="faa700"/>
                </a:solidFill>
                <a:uFillTx/>
                <a:latin typeface="Arial"/>
                <a:hlinkClick r:id="rId11"/>
              </a:rPr>
              <a:t>bhcp=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1752480"/>
            <a:ext cx="448164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NTASMIC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3489840" y="4103640"/>
            <a:ext cx="28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Bruce Hea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 am so glad you are here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going to have a great time toge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things I know for su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ds Make Beautiful Mus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ic Makes Beautiful Ki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248520" y="2463840"/>
            <a:ext cx="2674800" cy="4394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 rot="19669800">
            <a:off x="609480" y="1380600"/>
            <a:ext cx="5100840" cy="210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OMEWORK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274320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FOR YOUR PARENTS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55627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 HA H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0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2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4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ait a minute!  I know something else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ids and music are two things I love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2206800" cy="2368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ll about ME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name is Mrs.. Pha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my 19th year of teaching mus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graduated from EDGEWOOD and Wright State Univer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ive in Tren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 am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augh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ster ( I have one broth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NNY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my SUNSHIN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3311280" cy="3434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0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NAMED AF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ANN SEBASTIAN BACH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a very special fish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895480" y="533520"/>
            <a:ext cx="33530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EBASTI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124080" y="1981080"/>
            <a:ext cx="3175200" cy="2635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1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e is my goal for this class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am going to treat you with respect so that you know how to treat me and others in the classr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143820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ules in my classroom are few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l free to do anything that will not be a problem for someone el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includ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Frie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Classm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724280" y="3733920"/>
            <a:ext cx="3657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ol Huh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ver dir="lu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77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77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in Phares User</cp:lastModifiedBy>
  <cp:lastPrinted>2007-11-19T21:50:47Z</cp:lastPrinted>
  <dcterms:modified xsi:type="dcterms:W3CDTF">2007-11-19T21:53:14Z</dcterms:modified>
  <cp:revision>14</cp:revision>
  <dc:subject/>
  <dc:title>Welcome to  Music With Mrs.. Phares</dc:title>
</cp:coreProperties>
</file>